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CC9B-98B8-4FF1-8ECA-D51F5A42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322-B9B9-427B-ADF2-2E64652B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90C-FF34-4F2C-8215-5053E94C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65D-18BD-4759-9DC4-DDA39163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104D-28C8-4B57-B810-17AA7A3B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AE61-584F-4555-8360-78BB4DF7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145F-CE0A-4672-A4A3-55FA9FCB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7DD0-301D-4FB7-B1A1-8FF658C7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DA91-19F8-42E8-9DD3-72421506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434F-CB07-499D-BF50-F3F8D4A3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2484-7B04-4A21-89CE-121FE841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2C7-FDC5-4CA7-A83A-43DC54D0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8AEA-F011-482B-9E4D-846D0863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6174-5D91-4E63-BE78-D80E8776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5E4B-8ABF-4F63-8B6D-4C4B4BFC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D6F4-BBC0-4D9F-B002-E3A68DF3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D518-081D-4A94-A335-1E110E10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DEC-36E4-4630-978F-16A43363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3E8-DB65-404B-B7F3-2B11B011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C55-A804-40F8-8C23-14FFB8EB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6287-B5BD-429F-85DE-95F1BE5C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4759-8C61-4711-AC05-B57DC831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A48-EDEA-40FD-9222-5C7357B1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D6A-66CE-4F35-9DD7-D4DB3316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E6A8-7AA5-4FD6-A301-84265C1676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742A-632F-4920-B398-8065582FFD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84582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empus Sans ITC"/>
              </a:rPr>
              <a:t>__________</a:t>
            </a:r>
            <a:r>
              <a:rPr b="0" lang="ja-JP" sz="8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8000" spc="-1" strike="noStrike">
                <a:solidFill>
                  <a:srgbClr val="000000"/>
                </a:solidFill>
                <a:latin typeface="Tempus Sans ITC"/>
              </a:rPr>
              <a:t>s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Tempus Sans ITC"/>
              </a:rPr>
              <a:t>Book of Seas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Written 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empus Sans ITC"/>
              </a:rPr>
              <a:t>Fal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000000"/>
                </a:solidFill>
                <a:latin typeface="Tempus Sans ITC"/>
              </a:rPr>
              <a:t>Fall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000000"/>
                </a:solidFill>
                <a:latin typeface="Tempus Sans ITC"/>
              </a:rPr>
              <a:t>Winter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000000"/>
                </a:solidFill>
                <a:latin typeface="Tempus Sans ITC"/>
              </a:rPr>
              <a:t>Winter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000000"/>
                </a:solidFill>
                <a:latin typeface="Tempus Sans ITC"/>
              </a:rPr>
              <a:t>Spring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000000"/>
                </a:solidFill>
                <a:latin typeface="Tempus Sans ITC"/>
              </a:rPr>
              <a:t>Spring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000000"/>
                </a:solidFill>
                <a:latin typeface="Tempus Sans ITC"/>
              </a:rPr>
              <a:t>Summer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000000"/>
                </a:solidFill>
                <a:latin typeface="Tempus Sans ITC"/>
              </a:rPr>
              <a:t>Summer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00:24:54Z</dcterms:created>
  <dc:creator>Stacy Aderholt</dc:creator>
  <dc:description/>
  <dc:language>en-US</dc:language>
  <cp:lastModifiedBy>Jodie Payne</cp:lastModifiedBy>
  <dcterms:modified xsi:type="dcterms:W3CDTF">2012-04-03T23:11:15Z</dcterms:modified>
  <cp:revision>1</cp:revision>
  <dc:subject/>
  <dc:title>__________’s  Book of Seasons</dc:title>
</cp:coreProperties>
</file>